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1838D-65F3-49E9-8AAC-022EF69EC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03CD6-B5B7-463B-84D9-E9B311A6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DEEF-F8EA-4B91-9815-5B9888C40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2ADB4-5FFF-4A81-B7E6-D0ACE155C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98C74-CA7D-492D-8774-748D75C1B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AD8A-1E5D-4221-A178-49660BD4A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BE7B0-95D5-421A-BDCB-31F4BD853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B46C7-7FCF-4CFE-9E89-571557D1D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38154-D9F5-4031-9EC4-D46B7D48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71CC3-C260-4416-B725-BBC0FD49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6E00-5247-42C3-B391-7B02E6B4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A88E1-6AFC-478F-A998-1CDA523D8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CE9A-ECE1-41DC-81C5-A1C633E81A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ncientgreece.com/s/Main_Page/http:/static.howstuffworks.com/gif/willow/ancient-greece4.gif" TargetMode="External"/><Relationship Id="rId2" Type="http://schemas.openxmlformats.org/officeDocument/2006/relationships/hyperlink" Target="http://static.howstuffworks.com/gif/willow/ancient-greece4.gif" TargetMode="External"/><Relationship Id="rId3" Type="http://schemas.openxmlformats.org/officeDocument/2006/relationships/hyperlink" Target="http://www.mapsofworld.com/greece/science-technology/ancient-greek-science-technologies.html" TargetMode="External"/><Relationship Id="rId4" Type="http://schemas.openxmlformats.org/officeDocument/2006/relationships/hyperlink" Target="http://www.associatedcontent.com/article/306454/history_of_the_minoan_civilization.html?cat=37"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060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0000"/>
                </a:solidFill>
                <a:latin typeface="Calibri"/>
              </a:rPr>
              <a:t>Greece!</a:t>
            </a:r>
            <a:endParaRPr b="0" lang="en-US" sz="9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ystem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was broken up between free people and slaves. Some slaves were prisoners of war or bought from slave traders. Few were skilled in crafts and even fewer were pai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der issues, the social system only applied to the men. Women's social and legal status was taken from their husband.  Women were not permitted to take part in social lif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k Trade</a:t>
            </a:r>
            <a:endParaRPr b="0" lang="en-US" sz="4400" spc="-1" strike="noStrike">
              <a:solidFill>
                <a:srgbClr val="000000"/>
              </a:solidFill>
              <a:latin typeface="Calibri"/>
            </a:endParaRPr>
          </a:p>
        </p:txBody>
      </p:sp>
      <p:sp>
        <p:nvSpPr>
          <p:cNvPr id="60" name=""/>
          <p:cNvSpPr txBox="1"/>
          <p:nvPr/>
        </p:nvSpPr>
        <p:spPr>
          <a:xfrm>
            <a:off x="324000" y="119700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cient Greece  they traded refined goods such as olive oil, wine, jewelry, pottery, bronze, silver, gold and art work to Egypt, Palestine, Mesopotamia and Asia minor all the way to the Indus valley . They traded this for luxury items and exotic raw material that was worked by craftsmen.</a:t>
            </a: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er craftsmen developed more techniques in stone work and ivory work. Also with emeralds and rub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Art and Architecture</a:t>
            </a:r>
            <a:endParaRPr b="0" lang="en-US" sz="4400" spc="-1" strike="noStrike">
              <a:solidFill>
                <a:srgbClr val="000000"/>
              </a:solidFill>
              <a:latin typeface="Calibri"/>
            </a:endParaRPr>
          </a:p>
        </p:txBody>
      </p:sp>
      <p:sp>
        <p:nvSpPr>
          <p:cNvPr id="62" name=""/>
          <p:cNvSpPr txBox="1"/>
          <p:nvPr/>
        </p:nvSpPr>
        <p:spPr>
          <a:xfrm>
            <a:off x="468360" y="1773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rt:</a:t>
            </a:r>
            <a:endParaRPr b="0" lang="en-US" sz="3200" spc="-1" strike="noStrike">
              <a:solidFill>
                <a:srgbClr val="000000"/>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cerned with expressing eternally true ideals</a:t>
            </a:r>
            <a:endParaRPr b="0" lang="en-US" sz="3200" spc="-1" strike="noStrike">
              <a:solidFill>
                <a:srgbClr val="000000"/>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sed on the ideals of reason, moderation, symmetry, balance, and harmony in all things, was meant to civilize the emo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68360" y="692280"/>
            <a:ext cx="8229600" cy="452592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chitectur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most important form of architecture was the temple dedicated to a god or goddes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alled rooms that housed the statues of deities and treasures </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open structures rather than closed ones</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The column were originally made of wood but were changed to marble in the 5</a:t>
            </a:r>
            <a:r>
              <a:rPr b="0" lang="en-US" sz="3200" spc="-1" strike="noStrike" baseline="30000">
                <a:solidFill>
                  <a:srgbClr val="ff0000"/>
                </a:solidFill>
                <a:latin typeface="Calibri"/>
              </a:rPr>
              <a:t>th</a:t>
            </a:r>
            <a:r>
              <a:rPr b="0" lang="en-US" sz="3200" spc="-1" strike="noStrike">
                <a:solidFill>
                  <a:srgbClr val="ff0000"/>
                </a:solidFill>
                <a:latin typeface="Calibri"/>
              </a:rPr>
              <a:t> century BCE</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hape and size of the columns in combination with the features above and below the column.</a:t>
            </a:r>
            <a:endParaRPr b="0" lang="en-US" sz="3200" spc="-1" strike="noStrike">
              <a:solidFill>
                <a:srgbClr val="000000"/>
              </a:solidFill>
              <a:latin typeface="Calibri"/>
            </a:endParaRPr>
          </a:p>
          <a:p>
            <a:pP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cience and Technology</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Highly developed compared to other pla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ntributed a lot in the field of mathematics. Geometry was used to measure land as described by Herodot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 strange property of amber was discovered by the Greek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Greek experiments revealed the fact that lodestone attracted small bits of i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gio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ds controlled their destiny and they were obsessed with knowing what the gods wanted. Religion was connected to every part of daily life it was social and practical. Public festivals were originated from religious practices like boys into warriors and girls in to mothers. Temples dedicated to the god or goddess were major Greek buildings in the cities. There were twelve chief g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8" name=""/>
          <p:cNvSpPr txBox="1"/>
          <p:nvPr/>
        </p:nvSpPr>
        <p:spPr>
          <a:xfrm>
            <a:off x="468360" y="907920"/>
            <a:ext cx="8229600" cy="452592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myth of creation there was Chaos who created the mass of earth and the heavens. Father heaven and mother earth. Gaea who is mother earth and Uranus father Heaven gave birth to the Titans, Cyclopes and Giants the first creatures.  The Cyclopes helped Zeus defeat his brother to become the father god, they did this my forging his lighting bolt.</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eks believed in an oracle they went to her for advice on everything and the oracle could see into the future. The Greeks gave offering to the oracle to see into the future. Like going to war, asking to get higher in the social ran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81bd"/>
            </a:gs>
            <a:gs pos="100000">
              <a:srgbClr val="e1e8f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84472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ds</a:t>
            </a:r>
            <a:endParaRPr b="0" lang="en-US" sz="4400" spc="-1" strike="noStrike">
              <a:solidFill>
                <a:srgbClr val="000000"/>
              </a:solidFill>
              <a:latin typeface="Calibri"/>
            </a:endParaRPr>
          </a:p>
        </p:txBody>
      </p:sp>
      <p:sp>
        <p:nvSpPr>
          <p:cNvPr id="70" name=""/>
          <p:cNvSpPr txBox="1"/>
          <p:nvPr/>
        </p:nvSpPr>
        <p:spPr>
          <a:xfrm>
            <a:off x="324000" y="620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ds said to live on top of mount Olympus, highest mountain in Greece. Zeus the father of the gods, Athena Goddess of wisdom and craft, Apollo the god of sun and poetry, Aphrodite goddess of love, and Poseidon brother of Zeus god of the sea and earthquak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tellectual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Philosophy” is a Greek word that originally meant “love of wis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Greek philosophers were concerned with the development of critical or rational thought about the nature of the universe and the place of divine forces and soul in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3" name=""/>
          <p:cNvSpPr txBox="1"/>
          <p:nvPr/>
        </p:nvSpPr>
        <p:spPr>
          <a:xfrm>
            <a:off x="468360" y="907920"/>
            <a:ext cx="8229600" cy="452592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phists (5</a:t>
            </a:r>
            <a:r>
              <a:rPr b="0" lang="en-US" sz="3200" spc="-1" strike="noStrike" baseline="30000">
                <a:solidFill>
                  <a:srgbClr val="000000"/>
                </a:solidFill>
                <a:latin typeface="Calibri"/>
              </a:rPr>
              <a:t>th</a:t>
            </a:r>
            <a:r>
              <a:rPr b="0" lang="en-US" sz="3200" spc="-1" strike="noStrike">
                <a:solidFill>
                  <a:srgbClr val="000000"/>
                </a:solidFill>
                <a:latin typeface="Calibri"/>
              </a:rPr>
              <a:t> century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ued that understanding the universe was beyond the reach of the human min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essed the importance of rhetoric (the art of persuasive oratory) in winning debates and swaying an aud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no absolute right or wrong, true wisdom consisted of being able to perceive and pursue one’ own good.</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fbcca4"/>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an Crete (2800 BCE)</a:t>
            </a:r>
            <a:r>
              <a:rPr b="0" lang="en-CA" sz="3200" spc="-1" strike="noStrike">
                <a:solidFill>
                  <a:srgbClr val="000000"/>
                </a:solidFill>
                <a:latin typeface="Calibri"/>
              </a:rPr>
              <a:t> -</a:t>
            </a:r>
            <a:r>
              <a:rPr b="0" lang="en-US" sz="3200" spc="-1" strike="noStrike">
                <a:solidFill>
                  <a:srgbClr val="000000"/>
                </a:solidFill>
                <a:latin typeface="Calibri"/>
              </a:rPr>
              <a:t>earliest civilization in the Aegean region emerged on Cr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cenaean civilization (1600-1100 BCE) -part of Indo-European family of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rk Age (1100-75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ek City States (polis in Greek) (750-5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Greece: (500-338 B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4" name=""/>
          <p:cNvSpPr txBox="1"/>
          <p:nvPr/>
        </p:nvSpPr>
        <p:spPr>
          <a:xfrm>
            <a:off x="468360" y="620640"/>
            <a:ext cx="8229600" cy="4525920"/>
          </a:xfrm>
          <a:prstGeom prst="rect">
            <a:avLst/>
          </a:prstGeom>
          <a:noFill/>
          <a:ln w="0">
            <a:noFill/>
          </a:ln>
        </p:spPr>
        <p:txBody>
          <a:bodyPr anchor="t">
            <a:normAutofit fontScale="8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o (429-347 BCE):</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his master Socrates, Plato wrote a great deal</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o’s ideas of government were set out in his dialogue titled </a:t>
            </a:r>
            <a:r>
              <a:rPr b="0" i="1" lang="en-US" sz="3000" spc="-1" strike="noStrike">
                <a:solidFill>
                  <a:srgbClr val="000000"/>
                </a:solidFill>
                <a:latin typeface="Calibri"/>
              </a:rPr>
              <a:t>The Republic</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was fascinated with the question of reality.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higher world of eternal, unchanging Ideas or Forms has always existed. To know these Form is to know truth.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Forms can only be apprehended by a trained mind which is the goal of philosoph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75" name=""/>
          <p:cNvSpPr txBox="1"/>
          <p:nvPr/>
        </p:nvSpPr>
        <p:spPr>
          <a:xfrm>
            <a:off x="468360" y="105264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istotle (384-322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ied at the Academy at Athens for 20 yea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ame a tutor to Alexander the Gre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shed for an effective form of government that would rationally direct human affai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not seek and ideal state based on the embodiment of an ideal Form of justice but tried to find the best form of government by a rational examination of existing govern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46c0a"/>
            </a:gs>
            <a:gs pos="100000">
              <a:srgbClr val="fbcca4"/>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ancientgreece.com/s/Main_P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http://static.howstuffworks.com/gif/willow/ancient-greece4.gi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http://www.mapsofworld.com/greece/science-technology/ancient-greek-science-technologies.htm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4"/>
              </a:rPr>
              <a:t>http://www.associatedcontent.com/article/306454/history_of_the_minoan_civilization.html?cat=3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 History Textboo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2400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graphy </a:t>
            </a:r>
            <a:endParaRPr b="0" lang="en-US" sz="4400" spc="-1" strike="noStrike">
              <a:solidFill>
                <a:srgbClr val="000000"/>
              </a:solidFill>
              <a:latin typeface="Calibri"/>
            </a:endParaRPr>
          </a:p>
        </p:txBody>
      </p:sp>
      <p:pic>
        <p:nvPicPr>
          <p:cNvPr id="46" name="Content Placeholder 3" descr="georaphy.gif"/>
          <p:cNvPicPr/>
          <p:nvPr/>
        </p:nvPicPr>
        <p:blipFill>
          <a:blip r:embed="rId2"/>
          <a:stretch/>
        </p:blipFill>
        <p:spPr>
          <a:xfrm>
            <a:off x="3422520" y="476280"/>
            <a:ext cx="5892840" cy="4897440"/>
          </a:xfrm>
          <a:prstGeom prst="rect">
            <a:avLst/>
          </a:prstGeom>
          <a:ln w="0">
            <a:noFill/>
          </a:ln>
        </p:spPr>
      </p:pic>
      <p:pic>
        <p:nvPicPr>
          <p:cNvPr id="47" name="Picture 3" descr="map-of-greece.jpg"/>
          <p:cNvPicPr/>
          <p:nvPr/>
        </p:nvPicPr>
        <p:blipFill>
          <a:blip r:embed="rId3"/>
          <a:stretch/>
        </p:blipFill>
        <p:spPr>
          <a:xfrm>
            <a:off x="0" y="620640"/>
            <a:ext cx="3591000" cy="3791160"/>
          </a:xfrm>
          <a:prstGeom prst="rect">
            <a:avLst/>
          </a:prstGeom>
          <a:ln w="0">
            <a:noFill/>
          </a:ln>
        </p:spPr>
      </p:pic>
      <p:sp>
        <p:nvSpPr>
          <p:cNvPr id="48" name="TextBox 6"/>
          <p:cNvSpPr/>
          <p:nvPr/>
        </p:nvSpPr>
        <p:spPr>
          <a:xfrm>
            <a:off x="539640" y="530064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 was very mountainous peninsula and had a small land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Greece was made up of small planes and river valleys surrounded by mountains which helped the societies in Greece stay away from each other and time to develop their own way of li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Content Placeholder 3" descr="52857_1.gif"/>
          <p:cNvPicPr/>
          <p:nvPr/>
        </p:nvPicPr>
        <p:blipFill>
          <a:blip r:embed="rId2"/>
          <a:stretch/>
        </p:blipFill>
        <p:spPr>
          <a:xfrm>
            <a:off x="0" y="0"/>
            <a:ext cx="4881600" cy="5570640"/>
          </a:xfrm>
          <a:prstGeom prst="rect">
            <a:avLst/>
          </a:prstGeom>
          <a:ln w="0">
            <a:noFill/>
          </a:ln>
        </p:spPr>
      </p:pic>
      <p:sp>
        <p:nvSpPr>
          <p:cNvPr id="50" name="TextBox 4"/>
          <p:cNvSpPr/>
          <p:nvPr/>
        </p:nvSpPr>
        <p:spPr>
          <a:xfrm>
            <a:off x="5364000" y="1773360"/>
            <a:ext cx="33116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ime the societies were so attached to independence they fought each other to gain advantage. Their rivalry among them led to warfare that devastated Greek soci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ce had a long seacoast  with bays which made numerous harb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ks inhabited many islands to the west south and mainly east of central Gree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olitical Structur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oan Cret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rete was ruled by a monarch from the central palace of Knossos. The monarchy, however, was far from a totalitarian regim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umerous administrative decisions were shared a priesthood and an immense network of bureaucrats and scrib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3" name=""/>
          <p:cNvSpPr txBox="1"/>
          <p:nvPr/>
        </p:nvSpPr>
        <p:spPr>
          <a:xfrm>
            <a:off x="539280" y="836640"/>
            <a:ext cx="8209080" cy="511344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ek City States (polis in Greek):</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 a community, the polis consisted of citizens with political rights without political rights, and noncitizens. All citizens of a polis possessed fundamental rights, but these rights were coupled with responsibil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e citizens not only belonged to themselves, they also belonged to the stat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his loyalty towards their city-states made each city-state distrusted one another.</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4" name=""/>
          <p:cNvSpPr txBox="1"/>
          <p:nvPr/>
        </p:nvSpPr>
        <p:spPr>
          <a:xfrm>
            <a:off x="468360" y="620640"/>
            <a:ext cx="8229600" cy="5832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rants (7</a:t>
            </a:r>
            <a:r>
              <a:rPr b="0" lang="en-CA" sz="3200" spc="-1" strike="noStrike" baseline="30000">
                <a:solidFill>
                  <a:srgbClr val="000000"/>
                </a:solidFill>
                <a:latin typeface="Calibri"/>
              </a:rPr>
              <a:t>th</a:t>
            </a:r>
            <a:r>
              <a:rPr b="0" lang="en-CA" sz="3200" spc="-1" strike="noStrike">
                <a:solidFill>
                  <a:srgbClr val="000000"/>
                </a:solidFill>
                <a:latin typeface="Calibri"/>
              </a:rPr>
              <a:t> to 6</a:t>
            </a:r>
            <a:r>
              <a:rPr b="0" lang="en-CA" sz="3200" spc="-1" strike="noStrike" baseline="30000">
                <a:solidFill>
                  <a:srgbClr val="000000"/>
                </a:solidFill>
                <a:latin typeface="Calibri"/>
              </a:rPr>
              <a:t>th</a:t>
            </a:r>
            <a:r>
              <a:rPr b="0" lang="en-CA" sz="3200" spc="-1" strike="noStrike">
                <a:solidFill>
                  <a:srgbClr val="000000"/>
                </a:solidFill>
                <a:latin typeface="Calibri"/>
              </a:rPr>
              <a:t> centuries B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Rulers who came to power in an unconstitutional way; tyrant was not subject to the law.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Tyrants built new marketplaces, temples, and walls to enhanced  their own popularity and glorified the city, they favours merchants and trader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Largely extinguished by the end of the 6</a:t>
            </a:r>
            <a:r>
              <a:rPr b="0" lang="en-CA" sz="3200" spc="-1" strike="noStrike" baseline="30000">
                <a:solidFill>
                  <a:srgbClr val="000000"/>
                </a:solidFill>
                <a:latin typeface="Calibri"/>
              </a:rPr>
              <a:t>th</a:t>
            </a:r>
            <a:r>
              <a:rPr b="0" lang="en-CA" sz="3200" spc="-1" strike="noStrike">
                <a:solidFill>
                  <a:srgbClr val="000000"/>
                </a:solidFill>
                <a:latin typeface="Calibri"/>
              </a:rPr>
              <a:t> century BCE, Greek believed in the rule of law, and tyranny made a mockery of that ide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5" name=""/>
          <p:cNvSpPr txBox="1"/>
          <p:nvPr/>
        </p:nvSpPr>
        <p:spPr>
          <a:xfrm>
            <a:off x="457200" y="519120"/>
            <a:ext cx="8229600" cy="5718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ical Gree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Confrontation between the Greek states and the mammoth Persian Empir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Greek states formed a defensive league under Spartan leadership, while the Athenians pursued a new military policy by the nav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henians produced a fleet of about two hundred vesse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thens formed a defensive alliance against the Persians called the Delian Leagu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8064a2"/>
            </a:gs>
          </a:gsLst>
          <a:lin ang="5400000"/>
        </a:gradFill>
      </p:bgPr>
    </p:bg>
    <p:spTree>
      <p:nvGrpSpPr>
        <p:cNvPr id="1" name=""/>
        <p:cNvGrpSpPr/>
        <p:nvPr/>
      </p:nvGrpSpPr>
      <p:grpSpPr>
        <a:xfrm>
          <a:off x="0" y="0"/>
          <a:ext cx="0" cy="0"/>
          <a:chOff x="0" y="0"/>
          <a:chExt cx="0" cy="0"/>
        </a:xfrm>
      </p:grpSpPr>
      <p:sp>
        <p:nvSpPr>
          <p:cNvPr id="56" name=""/>
          <p:cNvSpPr txBox="1"/>
          <p:nvPr/>
        </p:nvSpPr>
        <p:spPr>
          <a:xfrm>
            <a:off x="395280" y="620280"/>
            <a:ext cx="8229600" cy="648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ge of Pericl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olicy of expanding democracy.</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sovereignty of the people was embodied in the assembly.</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ower class citizens were eligible for public offices formerly closed to them.</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Board of ten officials known as generals, were elected by public vot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general could be re-elected, enabling individual leaders to play an important ro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ericles, was elected to the generalship thirty times between 461-429 BC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8:59:03Z</dcterms:created>
  <dc:creator>Administrator</dc:creator>
  <dc:description/>
  <dc:language>en-US</dc:language>
  <cp:lastModifiedBy>Kairu Wang</cp:lastModifiedBy>
  <dcterms:modified xsi:type="dcterms:W3CDTF">2010-10-04T02:29:16Z</dcterms:modified>
  <cp:revision>19</cp:revision>
  <dc:subject/>
  <dc:title>Greece!</dc:title>
</cp:coreProperties>
</file>